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F27-CDEB-469A-869C-C50E4C75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949E-48D3-411D-BBE6-F9953601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CB54-07F9-4A5B-AE04-30A343ED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D6D-1AF6-42BF-8CFC-40FE5E11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117-48BB-40E8-8A27-AAAE1AAD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610-0659-4E0A-8E79-080F2605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BD0-2442-4334-B660-70511182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6283-556D-483A-BDD5-5B66E150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0A2-6206-45D6-BC43-866C09E8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C4D-10CD-4049-9753-71635AB7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ACE3-DD50-40D3-AD6C-082BC05E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83E4-A1D6-43B5-8CD7-0F0CCC90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789C-392A-49D5-935B-6EAA16B7A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23184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Me llamo ___________  Clase 701</a:t>
            </a:r>
            <a:br>
              <a:rPr sz="4000"/>
            </a:b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La fecha es el 22 de febrero del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960" y="1599840"/>
            <a:ext cx="8762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osito # 48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Juegan ustedes al ten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con la forma correcta del verbo TE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_______ una mascota. _____ un g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uestra escuela ______ un equipo de beisbol bu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_______ tú una familia grande o pequeñ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 muchos pri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036440"/>
            <a:ext cx="8610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recognize SPANISH ver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“conjugate”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teps to “conjugate”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0880" y="1690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ll Spanish verbs end in either –AR, -ER or -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4920" y="2590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o “conjugate” a verb means to change it in order to us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80880" y="40528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1. Find the INFINITIVE verb ending.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(-ar, -er, -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80880" y="4738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2. Remove the INFINITIVE</a:t>
            </a: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verb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80880" y="55306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3. Replace with the appropriate NEW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ndings for verbs in the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,Ella,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,Ellas,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901320" y="190512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812040" y="24526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888000" y="29862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570120" y="351936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735720" y="40384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-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778920" y="4510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631560" y="18288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6555240" y="237636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643800" y="29098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5489280" y="350532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7241400" y="35193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-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5720040" y="40384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-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7576560" y="40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-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6707880" y="4586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1143000"/>
          <a:ext cx="9067680" cy="5043600"/>
        </p:xfrm>
        <a:graphic>
          <a:graphicData uri="http://schemas.openxmlformats.org/drawingml/2006/table">
            <a:tbl>
              <a:tblPr/>
              <a:tblGrid>
                <a:gridCol w="3354480"/>
                <a:gridCol w="5713200"/>
              </a:tblGrid>
              <a:tr h="7542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                </a:t>
                      </a: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Lanzar       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Meter  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ub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Line 31"/>
          <p:cNvSpPr/>
          <p:nvPr/>
        </p:nvSpPr>
        <p:spPr>
          <a:xfrm flipV="1">
            <a:off x="33526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4"/>
          <p:cNvSpPr/>
          <p:nvPr/>
        </p:nvSpPr>
        <p:spPr>
          <a:xfrm>
            <a:off x="541008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5"/>
          <p:cNvSpPr/>
          <p:nvPr/>
        </p:nvSpPr>
        <p:spPr>
          <a:xfrm>
            <a:off x="731520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6"/>
          <p:cNvSpPr/>
          <p:nvPr/>
        </p:nvSpPr>
        <p:spPr>
          <a:xfrm>
            <a:off x="3737160" y="190512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3"/>
          <p:cNvSpPr/>
          <p:nvPr/>
        </p:nvSpPr>
        <p:spPr>
          <a:xfrm flipV="1">
            <a:off x="54100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4"/>
          <p:cNvSpPr/>
          <p:nvPr/>
        </p:nvSpPr>
        <p:spPr>
          <a:xfrm flipV="1">
            <a:off x="731520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5"/>
          <p:cNvSpPr/>
          <p:nvPr/>
        </p:nvSpPr>
        <p:spPr>
          <a:xfrm>
            <a:off x="3660480" y="260496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6"/>
          <p:cNvSpPr/>
          <p:nvPr/>
        </p:nvSpPr>
        <p:spPr>
          <a:xfrm>
            <a:off x="3762000" y="33670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7"/>
          <p:cNvSpPr/>
          <p:nvPr/>
        </p:nvSpPr>
        <p:spPr>
          <a:xfrm>
            <a:off x="3412080" y="411480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8"/>
          <p:cNvSpPr/>
          <p:nvPr/>
        </p:nvSpPr>
        <p:spPr>
          <a:xfrm>
            <a:off x="3694320" y="487692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0" i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9"/>
          <p:cNvSpPr/>
          <p:nvPr/>
        </p:nvSpPr>
        <p:spPr>
          <a:xfrm>
            <a:off x="3660840" y="565308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0"/>
          <p:cNvSpPr/>
          <p:nvPr/>
        </p:nvSpPr>
        <p:spPr>
          <a:xfrm>
            <a:off x="5768640" y="19051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1"/>
          <p:cNvSpPr/>
          <p:nvPr/>
        </p:nvSpPr>
        <p:spPr>
          <a:xfrm>
            <a:off x="5717880" y="2590920"/>
            <a:ext cx="11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2"/>
          <p:cNvSpPr/>
          <p:nvPr/>
        </p:nvSpPr>
        <p:spPr>
          <a:xfrm>
            <a:off x="5787360" y="33670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3"/>
          <p:cNvSpPr/>
          <p:nvPr/>
        </p:nvSpPr>
        <p:spPr>
          <a:xfrm>
            <a:off x="5490000" y="4114800"/>
            <a:ext cx="17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4"/>
          <p:cNvSpPr/>
          <p:nvPr/>
        </p:nvSpPr>
        <p:spPr>
          <a:xfrm>
            <a:off x="5702760" y="4890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0" i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5"/>
          <p:cNvSpPr/>
          <p:nvPr/>
        </p:nvSpPr>
        <p:spPr>
          <a:xfrm>
            <a:off x="5724720" y="565308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6"/>
          <p:cNvSpPr/>
          <p:nvPr/>
        </p:nvSpPr>
        <p:spPr>
          <a:xfrm>
            <a:off x="7610760" y="191916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7"/>
          <p:cNvSpPr/>
          <p:nvPr/>
        </p:nvSpPr>
        <p:spPr>
          <a:xfrm>
            <a:off x="7507440" y="260496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8"/>
          <p:cNvSpPr/>
          <p:nvPr/>
        </p:nvSpPr>
        <p:spPr>
          <a:xfrm>
            <a:off x="7547040" y="336708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9"/>
          <p:cNvSpPr/>
          <p:nvPr/>
        </p:nvSpPr>
        <p:spPr>
          <a:xfrm>
            <a:off x="7302960" y="412920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0"/>
          <p:cNvSpPr/>
          <p:nvPr/>
        </p:nvSpPr>
        <p:spPr>
          <a:xfrm>
            <a:off x="7577640" y="4967280"/>
            <a:ext cx="12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1"/>
          <p:cNvSpPr/>
          <p:nvPr/>
        </p:nvSpPr>
        <p:spPr>
          <a:xfrm>
            <a:off x="7471080" y="565308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d the INFINITIVE e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. Remove the INFINITIVE verb e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3. Replace with the appropriate NEW en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Yo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Tú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Él ella Ud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Nosotros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Vosotros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Ellos Ellas Uds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3809880" y="1905120"/>
            <a:ext cx="38124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735720" y="3124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735720" y="397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735360" y="4433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735720" y="4815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735720" y="5257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3735360" y="57150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735720" y="6110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Verbos de Cambio Radical E</a:t>
            </a:r>
            <a:r>
              <a:rPr b="0" lang="en-US" sz="4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(stem-changing verb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bs in Spanish are called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stem-cha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rbs. When conjugated, these verbs don’t only change the ending, they also change the STEM or root;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XCEP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ronouns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vosotros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se verbs are also known a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OOT VERB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when conjugated in the following form, only the verb INSIDE the book tak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320" y="4282920"/>
          <a:ext cx="8991360" cy="2498760"/>
        </p:xfrm>
        <a:graphic>
          <a:graphicData uri="http://schemas.openxmlformats.org/drawingml/2006/table">
            <a:tbl>
              <a:tblPr/>
              <a:tblGrid>
                <a:gridCol w="2371680"/>
                <a:gridCol w="2206440"/>
                <a:gridCol w="2206800"/>
                <a:gridCol w="2206440"/>
              </a:tblGrid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mp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z</a:t>
                      </a: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ar </a:t>
                      </a: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to begi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42"/>
          <p:cNvSpPr/>
          <p:nvPr/>
        </p:nvSpPr>
        <p:spPr>
          <a:xfrm>
            <a:off x="2438280" y="4815000"/>
            <a:ext cx="221004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3"/>
          <p:cNvSpPr/>
          <p:nvPr/>
        </p:nvSpPr>
        <p:spPr>
          <a:xfrm>
            <a:off x="2438280" y="5348160"/>
            <a:ext cx="221004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2438280" y="5867280"/>
            <a:ext cx="2210040" cy="947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5"/>
          <p:cNvSpPr/>
          <p:nvPr/>
        </p:nvSpPr>
        <p:spPr>
          <a:xfrm>
            <a:off x="6858000" y="4815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mpez</a:t>
            </a:r>
            <a:r>
              <a:rPr b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6858000" y="5334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8000"/>
                </a:solidFill>
                <a:latin typeface="Arial"/>
              </a:rPr>
              <a:t>Empez</a:t>
            </a:r>
            <a:r>
              <a:rPr b="0" i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2"/>
          <p:cNvSpPr/>
          <p:nvPr/>
        </p:nvSpPr>
        <p:spPr>
          <a:xfrm>
            <a:off x="6858000" y="5867280"/>
            <a:ext cx="2127240" cy="947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6320" y="14176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me examples of  stem-changing verb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want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de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lose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i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prefer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se verbs are often followed by an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INFIN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erbos de Cambio Radical E</a:t>
            </a:r>
            <a:r>
              <a:rPr b="0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(stem-changing verb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4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64280" y="4890960"/>
            <a:ext cx="39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n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gan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89040" y="5500800"/>
            <a:ext cx="43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no 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n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er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596120" y="4876920"/>
            <a:ext cx="32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prefe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to win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840560" y="5500800"/>
            <a:ext cx="39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don’t want 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to win.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area # 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following verbs; remember the “stem-changing” rule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2 original sentences with each verb, make sure you use different pronouns or subjects. Get creative!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6 to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1:06:12Z</dcterms:created>
  <dc:creator>Helen Zumaeta</dc:creator>
  <dc:description/>
  <dc:language>en-US</dc:language>
  <cp:lastModifiedBy>Helen Zumaeta</cp:lastModifiedBy>
  <cp:lastPrinted>2016-02-22T16:43:23Z</cp:lastPrinted>
  <dcterms:modified xsi:type="dcterms:W3CDTF">2016-02-22T20:32:24Z</dcterms:modified>
  <cp:revision>42</cp:revision>
  <dc:subject/>
  <dc:title>Me llamo ___________  Clase 7 IM La fecha es el 18 de noviembre del 2010</dc:title>
</cp:coreProperties>
</file>